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6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91E-59DC-46AD-A554-5E7DE673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299-E0F5-4C8D-BAED-3A534893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8CDFD-54C0-47BD-8484-84B61788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A16FF-DF4B-40D9-9B67-8B3B6BD3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1CCFB-2A29-4BFE-A97A-31108AE5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81513-56F8-43E7-863E-1778281D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8E21A-E35D-4856-9382-49CCC858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D0B0A-3B66-45D8-A30F-EE287341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90CF7-5228-44D7-96FD-CAF34007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9546C-73A3-453D-8B13-AC6F8C68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E26B3-80C0-4419-B0D8-08A740CA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B8482-85BC-4180-89B0-E92458BA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7D1-EE8A-4AC3-B76B-3F8592B8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0849E-F0F2-46DD-BAD0-B544951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BBC53-A5B7-4033-936B-835CA48D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F171B-C1FC-4FD2-85E5-7A080D09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820FB-1367-4DFE-B061-00582A42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AA27E-E974-46FC-959B-A831521E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5F13A-2AD0-4F6E-B533-7D290FA1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319EC-9C26-450C-8E1B-61DFC6C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B5BA1-7402-48A5-9DF1-3B36AF3E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E2912-1B2A-49EC-BA5E-66282A11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6E3E7-DE0C-4824-A4FE-F2617320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A3F-D550-4218-8AF3-1101291E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DCC57-B9B0-4DF1-92A5-26AB7318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05D2B-26D1-4056-A537-0F7D7AA2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88940-5BD6-434F-9208-38AFF9E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D8A30-535A-4C63-A99E-FA4E48B9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C1119-B155-4C77-83A4-0657CAD3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72B17-AB34-4F14-B4A6-6333D5E2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F7AEC-2CC0-4AF8-831F-72608D29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7AE48-4D44-4EAB-A702-0607D1E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EB44D-2338-4372-AA1D-9346F75F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BBBE2-2A26-46F0-864A-B12E0856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8506-0443-486D-9834-E44180CC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6425F-CEB0-4E2D-A481-1DDCB867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068DC-1E25-4055-BFFE-967DE37F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B016B-D60C-4FDA-BEF6-A8271737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B5212-B927-47D0-852D-1FC00F6D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9A088-80FD-4854-909B-5B7E2924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DCF3A-55AE-4C02-8028-03F71D0E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BB6C6-39AF-44C6-AC23-D2BDFE6D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98455-6F40-4280-B262-DECFA644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FE694-3EF7-43A4-A04D-4A751385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6784F-6A1F-4CB9-8682-7E0CCFB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8242-B42D-42E3-BFF0-0F83B1F6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22E1B-F375-4CD8-A815-8320AAA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FE8F4-4C13-47C8-B838-B5227C01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41FE5-D03F-4450-A013-23126F02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BCFE8-9CFA-464F-94C8-8D7AC349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186CA-2AC9-4A66-89DE-3DCAC37E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02A2-1994-4A85-9159-4018FD57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E556-A5EF-4A1E-95A3-A81E7E75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9B09-E1B6-416C-AB43-7F352F3A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C621-7E55-4420-88C4-8C6DA1A7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1339-7AB1-4ADB-9C5E-D0AC5B17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F5F-9883-4107-8486-70E77B08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288B-936F-444B-BADE-B075A82A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DFF6-DE0B-4F23-B83F-068E1791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6A2-A45D-4C87-952C-DFC5DF8F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30E1-BE97-4A63-94AD-C7898A1F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FEE6-767E-49E8-8ABE-E25B95A7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32E8-AE8F-4F0D-AE0C-298F08F8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48B6-38FC-4EBD-91E4-8C43C19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858B-B896-44D6-8232-F5D5CFF0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7C91-6C88-4210-A257-E1C192FD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4496-AB02-410B-9CAC-9C56A54A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185-CA31-44FB-8B01-5771C5C7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C284-F519-4715-B9D0-262B25BF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825A-3CB2-4C13-8713-F98DFC7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4BA1-6D82-4AEE-AD9E-AD229463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D542-AB53-4264-A3AD-22AD35D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52C9-F461-4DF6-86BB-BCB1FDD4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3A85-50BE-406F-A7B4-17042897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729A-946E-4A7C-B8DF-F23B28C6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6BE49-687D-42A9-A595-960AD3EC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707AF-5BFE-4B63-97FA-AED43BC6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9F7F5-8F3A-40B7-B6B9-3F59F405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DE1-E026-4AED-9439-2B688A32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05BC-2619-4C8D-AB93-EE8391C2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0CC0-EEC8-4EA8-8ED6-E905079F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017E-997E-4139-A934-6D799513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ECAC5-A245-4838-B00F-4BBAA76B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9BAD-17DE-429F-A137-0D01937E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2BA6-E421-4122-9C81-B6C9B52B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D3D5-7A77-4BE4-9DF2-9EC15DAE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76D7-D22D-4588-99B5-B1935441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B6984-8998-44F8-AE88-B4F4CF8E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D4CB7-493E-4C75-B48A-E60DE268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E2D-8DE5-4820-9C96-C441917D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53C36-8ACB-4775-85A3-F66EB2EC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3E074-4290-473E-8962-1B0233D1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D3E7-E22D-4C65-BD0B-F5591F8A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F5168-E0C9-40B6-B417-9902524E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6C32-A3D4-4357-9550-5A6C90EC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053C1-51C9-405B-845B-7D5FEDCD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BB002-4EBB-4B1E-98CD-3C557028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F28E7-A115-4CD1-B8EE-8416B452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BDE3-1A15-482E-832D-31A89274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AB57-8BDE-482E-8C0C-B287515D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073-5D02-4061-BAAF-EB2E7B92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42D1F-2063-4DF8-8209-A42231DF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DED26-4E53-4D23-B2C2-69787D62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44FD6-1ED7-4848-8FBD-30D0F4CC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C9581-F646-4B4A-8576-B04FE08C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63CB7-B9D2-4B17-88D6-983BCEE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28F10-7FB3-404B-BDF3-9AB3A73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8E3A-B3A4-448D-9DDB-BD0DE748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9D0D3-80D1-44B1-8A87-489A7EFB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BEE9B-6248-41C5-A56B-FEA59465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DF966-59E6-48E6-9FA8-C8D860F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A2D-C5F9-406A-9C0B-8EC82379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B0F59-F699-43BB-8B60-3723DE66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0D2D-3CBD-4A36-945B-B209C3F5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7D7CF-B041-4B6D-A8A2-69E1DF2F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4D171-79F4-438F-AD21-917D3C4F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C1453-8AD4-433D-ACF4-3A4BD47F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6790-FEE8-4A38-9FF8-95F5EF0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A9FE1-4876-48A6-8D60-5CD08DCF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7187E-42D0-4917-AC84-AE87B2D6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4451C-ECA5-4295-A3D4-616D2A8E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D45C7-2547-41CE-99FD-F74FEDB2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010-0234-4DB3-AB74-4D34824D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365DB-F482-42C7-B7D0-E624DF92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303F2-DC5E-4470-A1A4-05427753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0E114-C932-4E57-AFD7-14F4BD4F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F6F57-A120-41DF-9763-6DBBE86F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170F-476E-4C43-8243-A20BD72F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DA83B-5BC5-40C4-910C-587FA3A5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85CF0-3E21-43F1-8C05-5C13A44F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5F02E-1909-42D0-A796-FEA9143C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B3DAE-2B6A-4150-9FA6-9ACB21E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2FDC9-8D3F-4B1B-83A0-0C5ECF54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81F-E805-49AB-BC58-BA16F8F6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618B9-7EEF-48DC-929E-C0B1E5FD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AE3FD-24DE-4A1F-B795-1F9F80FD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CBFD2-4584-47FE-8960-7A671C42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7989-C2A7-4273-9207-17F9653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143CD-4C3F-45D6-884E-914454C5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6CF8A-DC33-4402-AE81-0C7008AD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3B43-D3B8-4AA9-B70A-859AD6F7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042CC-05E7-4AA0-98A0-B93D7016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62F65-A9F1-4FC0-B001-9C64386F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58C1F-F3CE-413F-A08F-2A91EBF0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E1EB-09D6-48C4-A0B8-BBDCF3808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95A0-884B-4DEA-9F80-8DE289A76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84B8-C0E7-441F-BBFE-A500E328AE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5012-461E-4BDC-923E-CB68BDACA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9CBA-FF01-4DC1-99D8-C1E090C1E0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1AD3-D5EB-4168-8BA4-B25856909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2E77-6835-4B3C-9191-81BCB20DD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0243-9702-415E-BD07-E0E6FD578E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8C04-373F-452E-92D6-0ED115A045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AC44-520D-4CA7-9D40-077F4B6A3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B0C5-C18B-49F3-B6D4-D8020BA22D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8197-C3C8-4770-887F-9B9D57A699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46b86"/>
                </a:solidFill>
                <a:latin typeface="Georgia"/>
              </a:rPr>
              <a:t>GRUPA I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RDELEAN ANDA MARILENA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URYA THOMAS PATRIC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ORN KARIN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OSIF TUDOR ANDRE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ĂPUŞAN GEORGIA PATRICI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ETRIC ELIZ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Adunarea</a:t>
            </a:r>
            <a:r>
              <a:rPr b="0" lang="ro-RO" sz="4200" spc="-1" strike="noStrike">
                <a:solidFill>
                  <a:srgbClr val="ffffff"/>
                </a:solidFill>
                <a:latin typeface="Georgia"/>
              </a:rPr>
              <a:t> fracţiilor</a:t>
            </a: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 care au acelasi numitor</a:t>
            </a:r>
            <a:br>
              <a:rPr sz="4200"/>
            </a:br>
            <a:r>
              <a:rPr b="0" lang="ro-RO" sz="4200" spc="-1" strike="noStrike">
                <a:solidFill>
                  <a:srgbClr val="ffffff"/>
                </a:solidFill>
                <a:latin typeface="Georgia"/>
              </a:rPr>
              <a:t>Aplicaţii practic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"/>
          <p:cNvSpPr/>
          <p:nvPr/>
        </p:nvSpPr>
        <p:spPr>
          <a:xfrm>
            <a:off x="1571760" y="221472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e şi auxiliare didactice, culegeri de 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. Branzei, D. Zaharia, M. Zahar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te 2000 + 10/1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 Editura Paralela 45, cls. a 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G. Turcitu, I. Rizea, C. Basarab, M. Duncea, P. Ciungu, I. Chiriac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方正舒体"/>
              </a:rPr>
              <a:t>–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Manual  pentru clasa a V-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, Ed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itu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Radical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Documentaţie diversă in format electronic, site-uri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http://images.google.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"/>
          <p:cNvSpPr/>
          <p:nvPr/>
        </p:nvSpPr>
        <p:spPr>
          <a:xfrm>
            <a:off x="2643120" y="85716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99"/>
                </a:solidFill>
                <a:latin typeface="Arial"/>
              </a:rPr>
              <a:t>Bibli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George a desfăcut o portocală în 14 felii egale. El </a:t>
            </a: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a dat 4 felii lui Dan şi 3 felii lui Mihai. Cât din portocală a dat George prietenilor săi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5857920" y="4286160"/>
            <a:ext cx="1833480" cy="18334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8" descr="Happy_orange"/>
          <p:cNvPicPr/>
          <p:nvPr/>
        </p:nvPicPr>
        <p:blipFill>
          <a:blip r:embed="rId2"/>
          <a:stretch/>
        </p:blipFill>
        <p:spPr>
          <a:xfrm>
            <a:off x="6000840" y="2928960"/>
            <a:ext cx="1371600" cy="1214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2060"/>
                </a:solidFill>
                <a:latin typeface="Georgia"/>
              </a:rPr>
              <a:t>Silvia şi-a adus la şcoală pentru a mânca, o tabletă de ciocolată, pe care şi-a împărţit-o în 9 părţi egale. În prima pauză a mîncat 3 bucăţi, a doua pauză o bucată, iar în pauza a treia a mâncat 4 bucăţi. Aflaţi fracţia care reprezintă ciocolata mâncată de </a:t>
            </a: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S</a:t>
            </a:r>
            <a:r>
              <a:rPr b="0" lang="ro-RO" sz="2500" spc="-1" strike="noStrike">
                <a:solidFill>
                  <a:srgbClr val="002060"/>
                </a:solidFill>
                <a:latin typeface="Georgia"/>
              </a:rPr>
              <a:t>ilvia în cele trei pauze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7" descr=""/>
          <p:cNvPicPr/>
          <p:nvPr/>
        </p:nvPicPr>
        <p:blipFill>
          <a:blip r:embed="rId1"/>
          <a:stretch/>
        </p:blipFill>
        <p:spPr>
          <a:xfrm>
            <a:off x="4857840" y="2571840"/>
            <a:ext cx="1357200" cy="1571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"/>
          <p:cNvPicPr/>
          <p:nvPr/>
        </p:nvPicPr>
        <p:blipFill>
          <a:blip r:embed="rId2"/>
          <a:stretch/>
        </p:blipFill>
        <p:spPr>
          <a:xfrm>
            <a:off x="5929200" y="485784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"/>
          <p:cNvPicPr/>
          <p:nvPr/>
        </p:nvPicPr>
        <p:blipFill>
          <a:blip r:embed="rId3"/>
          <a:stretch/>
        </p:blipFill>
        <p:spPr>
          <a:xfrm>
            <a:off x="7286760" y="3286080"/>
            <a:ext cx="1104840" cy="1143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Dintr-un balot de pân</a:t>
            </a: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z</a:t>
            </a: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ă, într-o zi s-a vândut dimineaţa 12 m, iar după amiază, 9 m şi încă 2/10 m. Care este lungimea totală a pânzei vândute în acea zi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7" descr=""/>
          <p:cNvPicPr/>
          <p:nvPr/>
        </p:nvPicPr>
        <p:blipFill>
          <a:blip r:embed="rId1"/>
          <a:stretch/>
        </p:blipFill>
        <p:spPr>
          <a:xfrm>
            <a:off x="5643720" y="2571840"/>
            <a:ext cx="2428560" cy="3500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Într-o grădină, merii reprezintă 6/13 din numărul total de pomi, iar caişii reprezintă 2/13 din numărul total de pomi. Ce fracţie reprezintă merii şi caişii, la un loc, din numărul total de pomi</a:t>
            </a: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Picture 7" descr=""/>
          <p:cNvPicPr/>
          <p:nvPr/>
        </p:nvPicPr>
        <p:blipFill>
          <a:blip r:embed="rId1"/>
          <a:stretch/>
        </p:blipFill>
        <p:spPr>
          <a:xfrm>
            <a:off x="4929120" y="3143160"/>
            <a:ext cx="3714840" cy="2386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2060"/>
                </a:solidFill>
                <a:latin typeface="Georgia"/>
              </a:rPr>
              <a:t>Marcela citeşte într-o zi 2/17 dintr-o carte, iar în ziua următoare, 8/17 din aceeaşi carte. Ce fracţie din carte a citit in cele două zile la un loc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5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5" name="Picture 7" descr=""/>
          <p:cNvPicPr/>
          <p:nvPr/>
        </p:nvPicPr>
        <p:blipFill>
          <a:blip r:embed="rId1"/>
          <a:stretch/>
        </p:blipFill>
        <p:spPr>
          <a:xfrm>
            <a:off x="4714920" y="2857680"/>
            <a:ext cx="4048200" cy="3038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Un automobilist are de parcurs un traseu în mai multe etape. În prima etapă parcurge 3/8 din lungimea traseului, iar în a doua etapă 2/8 din acelaşi traseu. Ce fracţie din lungimea traseului parcurge automobilul în primele două etape </a:t>
            </a:r>
            <a:r>
              <a:rPr b="0" lang="ro-RO" sz="2500" spc="-1" strike="noStrike">
                <a:solidFill>
                  <a:srgbClr val="002060"/>
                </a:solidFill>
                <a:latin typeface="Georgia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6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Picture 7" descr=""/>
          <p:cNvPicPr/>
          <p:nvPr/>
        </p:nvPicPr>
        <p:blipFill>
          <a:blip r:embed="rId1"/>
          <a:stretch/>
        </p:blipFill>
        <p:spPr>
          <a:xfrm>
            <a:off x="6072120" y="2714760"/>
            <a:ext cx="1303560" cy="1071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Voies (72x72px)"/>
          <p:cNvPicPr/>
          <p:nvPr/>
        </p:nvPicPr>
        <p:blipFill>
          <a:blip r:embed="rId2"/>
          <a:stretch/>
        </p:blipFill>
        <p:spPr>
          <a:xfrm>
            <a:off x="714240" y="2858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C:\Users\User\Desktop\Big_jeep.gif"/>
          <p:cNvPicPr/>
          <p:nvPr/>
        </p:nvPicPr>
        <p:blipFill>
          <a:blip r:embed="rId3"/>
          <a:stretch/>
        </p:blipFill>
        <p:spPr>
          <a:xfrm>
            <a:off x="4929120" y="4714920"/>
            <a:ext cx="3810240" cy="1214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2060"/>
                </a:solidFill>
                <a:latin typeface="Georgia"/>
              </a:rPr>
              <a:t>Doi tractorişti au de arat două suprafeţe de aceeaşi arie. Primul tractorist ară într – o oră 6/15 din suprafaţa repartizată şi în a doua oră 5/15 din aceeaşi suprafaţă. Al doilea tractorist ară într – o oră 5/15 din suprafaţa repartizată şi în a doua oră 6/15 din aceeaşi suprafaţă. Ce fracţie din suprafaţa repartizată a arat fiecare din cei doi tractorişti în două ore?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7643880" y="214200"/>
            <a:ext cx="642960" cy="900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File:David Brown 990 Implematic Tractor.gif"/>
          <p:cNvPicPr/>
          <p:nvPr/>
        </p:nvPicPr>
        <p:blipFill>
          <a:blip r:embed="rId2"/>
          <a:stretch/>
        </p:blipFill>
        <p:spPr>
          <a:xfrm>
            <a:off x="4286160" y="1857240"/>
            <a:ext cx="3167280" cy="29689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http://deerecollectibles.jfnets.com/images/tractor2_tnb.png"/>
          <p:cNvPicPr/>
          <p:nvPr/>
        </p:nvPicPr>
        <p:blipFill>
          <a:blip r:embed="rId3"/>
          <a:stretch/>
        </p:blipFill>
        <p:spPr>
          <a:xfrm>
            <a:off x="6572160" y="4286160"/>
            <a:ext cx="2151000" cy="1947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2060"/>
                </a:solidFill>
                <a:latin typeface="Georgia"/>
              </a:rPr>
              <a:t>Un biciclist are de parcurs un traseu în trei etape. El parcurge 8/20 din lungimea traseului în prima etapă, 5/20 în a doua etapă şi 7/20 în a treia etap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Georgia"/>
              </a:rPr>
              <a:t>a. </a:t>
            </a:r>
            <a:r>
              <a:rPr b="0" lang="ro-RO" sz="1900" spc="-1" strike="noStrike">
                <a:solidFill>
                  <a:srgbClr val="002060"/>
                </a:solidFill>
                <a:latin typeface="Georgia"/>
              </a:rPr>
              <a:t>Ce fracţie din lungimea traseului parcurge biciclistul în primele două etape?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Georgia"/>
              </a:rPr>
              <a:t>b. </a:t>
            </a:r>
            <a:r>
              <a:rPr b="0" lang="ro-RO" sz="1900" spc="-1" strike="noStrike">
                <a:solidFill>
                  <a:srgbClr val="002060"/>
                </a:solidFill>
                <a:latin typeface="Georgia"/>
              </a:rPr>
              <a:t>Dar în cele trei etape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Georgia"/>
              </a:rPr>
              <a:t>c.  </a:t>
            </a:r>
            <a:r>
              <a:rPr b="0" lang="ro-RO" sz="1900" spc="-1" strike="noStrike">
                <a:solidFill>
                  <a:srgbClr val="002060"/>
                </a:solidFill>
                <a:latin typeface="Georgia"/>
              </a:rPr>
              <a:t>Ce fracţie din lungimea traseului parcurge biciclistul în ultimele două etape?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a nr. 8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8" name="Picture 6" descr="Mono cycle (75x75px)"/>
          <p:cNvPicPr/>
          <p:nvPr/>
        </p:nvPicPr>
        <p:blipFill>
          <a:blip r:embed="rId1"/>
          <a:stretch/>
        </p:blipFill>
        <p:spPr>
          <a:xfrm>
            <a:off x="7286760" y="3571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http://www.embavenez-us.org/../imagenes/museito.bicicleta.gif"/>
          <p:cNvPicPr/>
          <p:nvPr/>
        </p:nvPicPr>
        <p:blipFill>
          <a:blip r:embed="rId2"/>
          <a:stretch/>
        </p:blipFill>
        <p:spPr>
          <a:xfrm>
            <a:off x="5572080" y="2428920"/>
            <a:ext cx="1676520" cy="10476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" descr="http://www.archicompostela.org/peregrinos/Estadisticas/biker64.gif"/>
          <p:cNvPicPr/>
          <p:nvPr/>
        </p:nvPicPr>
        <p:blipFill>
          <a:blip r:embed="rId3"/>
          <a:stretch/>
        </p:blipFill>
        <p:spPr>
          <a:xfrm>
            <a:off x="5500800" y="3929040"/>
            <a:ext cx="2200320" cy="1828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7:19:58Z</dcterms:created>
  <dc:creator>Ionica</dc:creator>
  <dc:description/>
  <dc:language>en-US</dc:language>
  <cp:lastModifiedBy>User</cp:lastModifiedBy>
  <dcterms:modified xsi:type="dcterms:W3CDTF">2011-01-25T15:35:01Z</dcterms:modified>
  <cp:revision>9</cp:revision>
  <dc:subject/>
  <dc:title>Slide 1</dc:title>
</cp:coreProperties>
</file>